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0.png" ContentType="image/png"/>
  <Override PartName="/ppt/media/image14.png" ContentType="image/png"/>
  <Override PartName="/ppt/media/image8.wmf" ContentType="image/x-wmf"/>
  <Override PartName="/ppt/media/image13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A11A-1A1C-4B3F-B3CE-0937DB63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BECD-FA1A-454D-9958-255C0CBA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9549-0EC7-42F0-A5C1-4F55E768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7BBE-695A-4F2F-974C-3A21BCEF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0AF2-2C6B-46DB-8B3B-977CFDA6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0F95-837E-430E-BD7A-E6E251D9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C941-B742-4703-B8E6-FDEACF40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71CC-A406-481B-98C0-8F05D96B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5860-F5EC-4FD5-8D4D-21D1C658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D5A5-D8A7-41C5-AB5A-DC069AEE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18AB-13E6-445D-8F45-2CF7F844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DF88-857B-408A-AC24-ACC07F6E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F99D-4BAC-4206-85E9-D3AFBF9A1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wmf"/><Relationship Id="rId9" Type="http://schemas.openxmlformats.org/officeDocument/2006/relationships/image" Target="../media/image9.jpeg"/><Relationship Id="rId10" Type="http://schemas.openxmlformats.org/officeDocument/2006/relationships/image" Target="../media/image5.jpe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581040" cy="412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09680" y="5257800"/>
            <a:ext cx="586080" cy="588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0880" y="34290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16002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219320" y="3123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154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aul  </a:t>
            </a:r>
            <a:r>
              <a:rPr b="0" lang="en-US" sz="1200" spc="-1" strike="noStrike">
                <a:solidFill>
                  <a:srgbClr val="00cc00"/>
                </a:solidFill>
                <a:latin typeface="Arial"/>
              </a:rPr>
              <a:t>David    Solo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51    1011  971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5335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52578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4876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hobo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160020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1219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eroboam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4876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257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13 9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5867280"/>
            <a:ext cx="838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irewall"/>
          <p:cNvSpPr/>
          <p:nvPr/>
        </p:nvSpPr>
        <p:spPr>
          <a:xfrm>
            <a:off x="6858000" y="5486400"/>
            <a:ext cx="533520" cy="22860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864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d Benjamin Plate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48769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Jehoshap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52578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5257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5867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1371600"/>
            <a:ext cx="0" cy="44956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5257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4876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Jo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19920" y="5257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1600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1600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52960" y="1219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h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1600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267080" y="5486400"/>
            <a:ext cx="609840" cy="406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52960" y="2286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(Jezeb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62120" y="3657600"/>
            <a:ext cx="384120" cy="609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219320" y="3657600"/>
            <a:ext cx="801720" cy="569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4462560" y="1600200"/>
            <a:ext cx="217440" cy="768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191120" y="2590920"/>
            <a:ext cx="1143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99"/>
                </a:solidFill>
                <a:latin typeface="Arial"/>
              </a:rPr>
              <a:t>Elij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99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990099"/>
                </a:solidFill>
                <a:latin typeface="Arial"/>
              </a:rPr>
              <a:t>Elis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38088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nsing the house of Omri, 8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1219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e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1600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1219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eroboam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38880" y="1600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43800" y="838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rot="5400000">
            <a:off x="7835040" y="774720"/>
            <a:ext cx="736560" cy="711000"/>
          </a:xfrm>
          <a:custGeom>
            <a:avLst/>
            <a:gdLst>
              <a:gd name="textAreaLeft" fmla="*/ 360 w 736560"/>
              <a:gd name="textAreaRight" fmla="*/ 737280 w 73656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69" stAng="10800000" swAng="5400000"/>
                <a:lnTo>
                  <a:pt x="14850" y="4291"/>
                </a:lnTo>
                <a:lnTo>
                  <a:pt x="14850" y="0"/>
                </a:lnTo>
                <a:lnTo>
                  <a:pt x="21600" y="6079"/>
                </a:lnTo>
                <a:lnTo>
                  <a:pt x="14850" y="12158"/>
                </a:lnTo>
                <a:lnTo>
                  <a:pt x="14850" y="7867"/>
                </a:lnTo>
                <a:lnTo>
                  <a:pt x="12427" y="7867"/>
                </a:lnTo>
                <a:arcTo wR="8851" hR="4293" stAng="16200000" swAng="-5400000"/>
                <a:lnTo>
                  <a:pt x="3576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43800" y="4572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lmaneser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6925680" y="2292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le to Assy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858000" y="5867280"/>
            <a:ext cx="536400" cy="606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705720" y="4876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Uzzi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5257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62920" y="5257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 flipH="1">
            <a:off x="228600" y="3733920"/>
            <a:ext cx="380880" cy="217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6629400" y="1676520"/>
            <a:ext cx="660240" cy="838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620120" y="4876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h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24480" y="4572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glath-Pileser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24680" y="5257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5715000" y="5486400"/>
            <a:ext cx="533520" cy="379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96080" y="55627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sa 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9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4876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Ju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1"/>
          <a:stretch/>
        </p:blipFill>
        <p:spPr>
          <a:xfrm>
            <a:off x="5334120" y="1828800"/>
            <a:ext cx="981000" cy="549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flipV="1">
            <a:off x="13716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8088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133720"/>
            <a:ext cx="1447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le began 480 yrs. after Exodus (1 Ki. 6: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25146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80"/>
                </a:solidFill>
                <a:latin typeface="Arial"/>
              </a:rPr>
              <a:t>A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495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80"/>
                </a:solidFill>
                <a:latin typeface="Arial"/>
              </a:rPr>
              <a:t>Obadi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46483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848-8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2666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767-7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44956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80"/>
                </a:solidFill>
                <a:latin typeface="Arial"/>
              </a:rPr>
              <a:t>Micah </a:t>
            </a:r>
            <a:r>
              <a:rPr b="0" lang="en-US" sz="1400" spc="-1" strike="noStrike">
                <a:solidFill>
                  <a:srgbClr val="80008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724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735 </a:t>
            </a:r>
            <a:r>
              <a:rPr b="0" lang="en-US" sz="1000" spc="-1" strike="noStrike">
                <a:solidFill>
                  <a:srgbClr val="800080"/>
                </a:solidFill>
                <a:latin typeface="Wingdings"/>
                <a:ea typeface="Wingdings"/>
              </a:rPr>
              <a:t>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44956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J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43434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835-8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28195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Ho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0" y="29718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760-7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41148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Isaiah </a:t>
            </a:r>
            <a:r>
              <a:rPr b="0" lang="en-US" sz="1200" spc="-1" strike="noStrike">
                <a:solidFill>
                  <a:srgbClr val="80008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43434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739-68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2889000" y="4654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bij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3193920" y="920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Baas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12193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Hosh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4419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14600" y="4572000"/>
            <a:ext cx="812880" cy="487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514600" y="4038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Josi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44197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44197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4038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Hezeki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4419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28600" y="4648320"/>
            <a:ext cx="781200" cy="398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14400" y="44197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6 6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4038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nasse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429000"/>
            <a:ext cx="1066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nacher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syri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752480" y="4495680"/>
            <a:ext cx="520920" cy="685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76720" y="4038480"/>
            <a:ext cx="15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5 597 5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3429000"/>
            <a:ext cx="1676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buchadnezzar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bylonian sie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2925720" y="495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niel ta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3002400" y="52567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zekiel &amp; Jehoiach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505320" y="5942880"/>
            <a:ext cx="1066680" cy="76212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762120"/>
              <a:gd name="textAreaBottom" fmla="*/ 7621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660" stAng="10800000" swAng="5400000"/>
                <a:lnTo>
                  <a:pt x="15100" y="45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7658"/>
                </a:lnTo>
                <a:lnTo>
                  <a:pt x="12427" y="7658"/>
                </a:lnTo>
                <a:arcTo wR="9269" hR="4502" stAng="16200000" swAng="-5400000"/>
                <a:lnTo>
                  <a:pt x="31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3274920" y="5409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rusalem &amp; temple ra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62164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 Yr Exile to Baby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4419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304920"/>
            <a:ext cx="18288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39-Cyrus takes Babyl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38-Issue decr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37-Zerubbabel leads 1st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turn to Jerusal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36-Temple Foundation la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4038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181480" y="1600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1500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5035320" y="503568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80"/>
                </a:solidFill>
                <a:latin typeface="Arial"/>
              </a:rPr>
              <a:t>Haggai &amp; Zechari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5256360" y="34279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resu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5675400" y="33134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le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4038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7  4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6627600" y="327528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zra (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tur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6932880" y="31230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hemiah (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tur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0007600">
            <a:off x="4724280" y="19807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9661400">
            <a:off x="5638680" y="182844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9599600">
            <a:off x="6477480" y="18280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er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9488000">
            <a:off x="7239240" y="1752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axer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172200" y="4495680"/>
            <a:ext cx="685800" cy="378000"/>
            <a:chOff x="6172200" y="4495680"/>
            <a:chExt cx="685800" cy="378000"/>
          </a:xfrm>
        </p:grpSpPr>
        <p:pic>
          <p:nvPicPr>
            <p:cNvPr id="155" name="" descr=""/>
            <p:cNvPicPr/>
            <p:nvPr/>
          </p:nvPicPr>
          <p:blipFill>
            <a:blip r:embed="rId4"/>
            <a:stretch/>
          </p:blipFill>
          <p:spPr>
            <a:xfrm>
              <a:off x="6172200" y="4495680"/>
              <a:ext cx="6858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 txBox="1"/>
            <p:nvPr/>
          </p:nvSpPr>
          <p:spPr>
            <a:xfrm>
              <a:off x="6172200" y="4495680"/>
              <a:ext cx="68580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7620120" y="4495680"/>
            <a:ext cx="556920" cy="7527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17880" y="1255680"/>
            <a:ext cx="85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00400" y="1981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ian Kin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0481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Mica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32004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Wingdings"/>
                <a:ea typeface="Wingdings"/>
              </a:rPr>
              <a:t></a:t>
            </a: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7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30481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Nah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82160" y="3200400"/>
            <a:ext cx="64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660-6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Ninev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26668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Isai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28195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Wingdings"/>
                <a:ea typeface="Wingdings"/>
              </a:rPr>
              <a:t></a:t>
            </a: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68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1460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Zephani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32004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628-6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Habakk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2895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609-5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Jeremi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32004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628-58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2743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Ezeki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8954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593-5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30481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Dani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95680" y="32004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605-5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5637240" y="4570920"/>
            <a:ext cx="3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5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5264280" y="570600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520-4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8213400" y="4738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Malac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8083800" y="471564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80"/>
                </a:solidFill>
                <a:latin typeface="Arial"/>
              </a:rPr>
              <a:t>433-4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22860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ff"/>
                </a:solidFill>
                <a:latin typeface="Script MT Bold"/>
              </a:rPr>
              <a:t>Es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66ff"/>
                </a:solidFill>
                <a:latin typeface="Arial"/>
              </a:rPr>
              <a:t>483-4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1:45:32Z</dcterms:created>
  <dc:creator>HP Authorized Customer</dc:creator>
  <dc:description/>
  <dc:language>en-US</dc:language>
  <cp:lastModifiedBy>HP Authorized Customer</cp:lastModifiedBy>
  <dcterms:modified xsi:type="dcterms:W3CDTF">2009-01-07T17:03:25Z</dcterms:modified>
  <cp:revision>7</cp:revision>
  <dc:subject/>
  <dc:title>Slide 1</dc:title>
</cp:coreProperties>
</file>