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0627-0150-4DE0-AD3D-E6B06DAEA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20F6-450A-4740-A84D-B694AED60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F83D-04B5-44AC-8D85-913515C94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68B5-3EA8-4C68-81CD-1232D4966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877-C953-41B2-AF0C-2186F486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F56-AC15-4D2E-AD21-1D0538C2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ED5-9043-44F3-934E-ABDF4EF1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269-F8F5-42B9-8A58-D3A8CD0D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D0B-2CB2-4792-9E0E-3BE1B06D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28A-5305-4E7F-BB45-FBD10BC2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8E7-9796-47D2-9111-8F4AD2CC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BF1-2365-4A39-8ADC-EED751B7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479-D226-4DA5-AA82-1718D559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C25-5A54-4B37-AF0A-507A90B8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457-B42C-4C95-8CC9-26890B20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CD8-E68E-4BC4-9A2C-60FEFF2B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E017-D1ED-4657-A974-1458C893C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image" Target="../media/image1.wm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4191120" y="2286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Perpetua Titling MT"/>
              </a:rPr>
              <a:t>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668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cation, Location,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ysfunctional Famil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 Said,         She Sa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at’s in a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r and Pe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65" descr=""/>
          <p:cNvPicPr/>
          <p:nvPr/>
        </p:nvPicPr>
        <p:blipFill>
          <a:blip r:embed="rId26"/>
          <a:stretch/>
        </p:blipFill>
        <p:spPr>
          <a:xfrm>
            <a:off x="457200" y="152280"/>
            <a:ext cx="2057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14400" y="13716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avid arrived to the battle with Goliath, this older brother said, "I know how conceited you are and how wicked your heart is: you came down only to watch the battle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211840" y="1752480"/>
            <a:ext cx="52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brother saved Joseph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fe by throwing him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it inst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213640" y="1752480"/>
            <a:ext cx="39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 my people go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212560" y="1752480"/>
            <a:ext cx="579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for me and my househo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will serve the LOR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213640" y="1752480"/>
            <a:ext cx="450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intended to h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, but God intended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goo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2212920" y="1752480"/>
            <a:ext cx="490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you go I will g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you stay, I wi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y.  Your people will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people and your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Go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213280" y="1752480"/>
            <a:ext cx="38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are that man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2213640" y="17524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new name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ther of many nation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213280" y="1752480"/>
            <a:ext cx="44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d identified Him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is name at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rning bu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212920" y="1752480"/>
            <a:ext cx="51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was his new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he wrestled with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13280" y="1752480"/>
            <a:ext cx="453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es received the 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andments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moun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212560" y="175248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name means, “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w him out o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ter.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214000" y="1752480"/>
            <a:ext cx="453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nted to be ca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a” because her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 bi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213280" y="1752480"/>
            <a:ext cx="481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hilistine was ki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a shepherd and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lingsho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213640" y="1752480"/>
            <a:ext cx="505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ould build the te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cause he was a man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211120" y="1752480"/>
            <a:ext cx="474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mson was suppos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eat these people 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rried one any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213640" y="1752480"/>
            <a:ext cx="451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was here that the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od still during batt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213640" y="1752480"/>
            <a:ext cx="520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ity was only defe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Achan’s sin w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alt wi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13280" y="1752480"/>
            <a:ext cx="476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id made this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apital of Isr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brought the ark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212920" y="1752480"/>
            <a:ext cx="42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alls of this c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me tumbling d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13640" y="1752480"/>
            <a:ext cx="47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rael rebelled here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feared going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omised 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12200" y="1752480"/>
            <a:ext cx="532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 this mountain, Mo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ewed the Promised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n di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212560" y="1752480"/>
            <a:ext cx="502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rop-growing br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lled his flock-kee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213280" y="1752480"/>
            <a:ext cx="51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brother stole his o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ther’s birth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13280" y="1752480"/>
            <a:ext cx="47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tormented Elkanah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vorite wife Hanna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Shelley Leith</cp:lastModifiedBy>
  <dcterms:modified xsi:type="dcterms:W3CDTF">2009-06-05T00:06:27Z</dcterms:modified>
  <cp:revision>29</cp:revision>
  <dc:subject/>
  <dc:title>Slide 1</dc:title>
</cp:coreProperties>
</file>