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B46-941E-4649-985B-BA8AAA55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88D-39E8-4719-ACC0-FB3497C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502-628E-4A53-AE06-0C9DF14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643-A4E1-495A-BE0E-BF959F8C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400-985D-4745-B60B-1CEA1A3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8D5-F5E5-4764-AD39-3B0B907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0FE-2EB6-478C-AD5C-8214D86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5F2-6CEF-4DED-82C9-D47B446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C25-4695-432E-9B53-163BEC7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DD0-461B-459C-A6EA-BE00822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C75-EBEF-47B0-BCFD-696F941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185-5604-4E7D-8A68-9EA0B00A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3680-D471-4C5B-958E-F6CDA396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of pluralism in belief in practice in America’s Evangel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w Forum on Religion and Public Life (200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ables were all accessed on Nov. 10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http://religions.pewforum.org/comparisons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598320"/>
            <a:ext cx="7315200" cy="56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994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11360"/>
            <a:ext cx="7619760" cy="54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593640"/>
            <a:ext cx="67816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14320"/>
            <a:ext cx="7467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4:34:11Z</dcterms:created>
  <dc:creator>HP Authorized Customer</dc:creator>
  <dc:description/>
  <dc:language>en-US</dc:language>
  <cp:lastModifiedBy>HP Authorized Customer</cp:lastModifiedBy>
  <dcterms:modified xsi:type="dcterms:W3CDTF">2009-01-07T17:11:10Z</dcterms:modified>
  <cp:revision>6</cp:revision>
  <dc:subject/>
  <dc:title>Slide 1</dc:title>
</cp:coreProperties>
</file>