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A3C-9315-4F36-A648-61BECA27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8F5-39C4-4E13-A7C4-49E14669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24B-D5F8-45E1-BC34-5370CA1D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CF9-F27D-4664-836F-56C3E0B8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325-19EF-4915-B022-B18C859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CCA-A53E-4DAF-B125-6CB2DF0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B7B-1A60-47F8-B441-83CD2F3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E9E-1E0A-4638-9CA8-BB91F9A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221-1701-4380-8ADF-F7CE5A14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54B-3C78-40EF-B2A7-4E4210F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A3D-D6D2-4C5B-B279-786088C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A61-5D24-4744-9782-B591564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E1E4-6F62-4AD5-94AB-83CB5ECF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7080" y="0"/>
            <a:ext cx="474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724280"/>
            <a:ext cx="4572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ORELLI, Luc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rrection of the Fles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99-150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s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el of San Brizi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mo, Orvie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Gallery of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2840" y="166680"/>
            <a:ext cx="9229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954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ELICO, F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rrection of Christ and Women at the Tom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-4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sco, 189 x 164 c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o di San Marco, Floren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3117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724280"/>
            <a:ext cx="2210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CO, E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surrec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6-16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canvas, 275 x 127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eo del Prado, Madri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1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YDEN, Lucas v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st Judgm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2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panel, 271 x 185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delijk Museum De Lakenhal, L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0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362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YDEN, Lucas v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st Judgment (detai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26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o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delijk Museum De Lakenhal, Leide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8120" y="0"/>
            <a:ext cx="4125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5136120"/>
            <a:ext cx="332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UTS, Dieric the Eld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di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5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l on wood, 115 x 69,5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ée des Beaux-Arts, L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Gallery of 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88960" y="0"/>
            <a:ext cx="6164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6668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HELANGELO Buonarrot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t Judgm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37-4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sc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pella Sis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tica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0:26:45Z</dcterms:created>
  <dc:creator>HP Authorized Customer</dc:creator>
  <dc:description/>
  <dc:language>en-US</dc:language>
  <cp:lastModifiedBy>HP Authorized Customer</cp:lastModifiedBy>
  <dcterms:modified xsi:type="dcterms:W3CDTF">2009-04-13T20:59:50Z</dcterms:modified>
  <cp:revision>7</cp:revision>
  <dc:subject/>
  <dc:title>Slide 1</dc:title>
</cp:coreProperties>
</file>