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F396-2D6E-4C50-B80F-9A1233C6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A4A-E0FE-4C36-9D81-7E4526AF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B7E-19D5-4F8C-965D-9373E25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FC8-7B87-495B-B0BB-77840281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4C8-7D82-4E48-BE87-A389E99A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481-443F-402D-885D-63C45188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78E-04A4-4492-8842-CB2769CC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EA4-F7B5-4889-A712-AA42DE71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EE3-86A7-4C75-B746-39ED19D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BBC-79C3-40C7-8444-FD179C2A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AC2-B054-4AF6-9350-AB46AD4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EC7-39D1-4428-8CF8-902FEB66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27D-333B-4935-96BE-8A8A96D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AB56-2709-4EC9-B933-3295E58A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120" y="1522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6707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ings and Th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phet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tion, Location,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 Out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e Sweet 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1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12920" y="1752480"/>
            <a:ext cx="589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the last Old 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phet and said that Elija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come before the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dreadful day of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13280" y="1752480"/>
            <a:ext cx="460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hepherd of Tek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rned Israel to prep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eet he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13640" y="1752480"/>
            <a:ext cx="520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aring for his life, Elij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ed to this mountain 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rd spoke to him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tle whis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14360" y="1752480"/>
            <a:ext cx="53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jah called down fir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ven to consum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rifice on this mountain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end God against Ba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14000" y="1752480"/>
            <a:ext cx="597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decai lived in this ca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ity of the Persian empire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 Xerxes took Es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qu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15800" y="1752480"/>
            <a:ext cx="530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ity became the ca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he northern terri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Israe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14360" y="1752480"/>
            <a:ext cx="583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oboam placed here a go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lf, installed priests, off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rifices and instituted a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stival in this city to mim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entic worship and hold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his powe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13280" y="1752480"/>
            <a:ext cx="60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abylonian king destro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usalem in three sieg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ok thousands cap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14720" y="1752480"/>
            <a:ext cx="597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young Judean nobl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put in charge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nce of Babylon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ly interpreting the king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12920" y="1752480"/>
            <a:ext cx="535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reigned over Israel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were taken ca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Assyri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12920" y="1752480"/>
            <a:ext cx="574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was the final reign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monarchy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rael which ended in 931 B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12920" y="1752480"/>
            <a:ext cx="535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rophet was already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ile when he warned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coming doom for th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belie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12560" y="1752480"/>
            <a:ext cx="534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reigning over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he and ten thou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deans were taken pris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abyl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12920" y="1752480"/>
            <a:ext cx="56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prophesied that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be in exile for 70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n return to the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2200" y="1752480"/>
            <a:ext cx="52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king of Persia issued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ree allowing the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turn to Jerusalem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build their te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13640" y="1752480"/>
            <a:ext cx="56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festival celebrates God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liverance of the Jew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from Haman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mpted genocid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14360" y="1752480"/>
            <a:ext cx="515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leader is credi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building the wall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usa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14000" y="175248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eople obeyed this prop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rned Zerubbabel to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 to work on the Lord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12920" y="1752480"/>
            <a:ext cx="518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ood king wa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dard by whom all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s were measu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13280" y="1752480"/>
            <a:ext cx="571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king lacked the wis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his father Solomon 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rejected the advice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ders and split the king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13640" y="1752480"/>
            <a:ext cx="52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evil king of Israel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 Baal worship and e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rificed his firstborn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rebuilding of Jeric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14000" y="1752480"/>
            <a:ext cx="595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became king of Judah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 years old and perpetr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rrific evil including sh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nocent blood, star worshi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idolatry in the temp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12560" y="1752480"/>
            <a:ext cx="571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told him to marry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ulterous woman a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on Israel’s faithful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3280" y="1752480"/>
            <a:ext cx="614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eatest of writing proph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ed King Hezekiah th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nacherib’s Assyrian thr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12920" y="1752480"/>
            <a:ext cx="520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prophesied tha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unammite woman 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a son whom he l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sed from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HP Authorized Customer</cp:lastModifiedBy>
  <dcterms:modified xsi:type="dcterms:W3CDTF">2009-05-25T21:25:04Z</dcterms:modified>
  <cp:revision>22</cp:revision>
  <dc:subject/>
  <dc:title>Slide 1</dc:title>
</cp:coreProperties>
</file>