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305F-7F76-45BF-B310-580CDE5F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9D4-8342-4B3E-8439-8EE15989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210E-AEF4-4BE8-B206-ED56947D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25F-2C38-43C3-AC49-B30FFDC9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8FF-8DDA-482A-9B54-5D4EF108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4F4-9AEE-4D92-BCB6-F8D854A9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2F6-4C2B-47E5-9A7D-C4225B70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2DB-3877-4174-A1F5-A7856567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592-E235-434D-A70E-4B7FDF07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E11-1509-4CC2-82D1-3CD63205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D3B-D8C7-492B-B584-4E7047A1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6F5-C304-44D6-A6E6-FE4471D0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F0E-6E49-44F6-8D6C-8B5B5D04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1A5-BACC-49CA-977B-31FC13C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3FD-5120-4990-BE6A-1E1142AA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C87-44AD-4F96-9A87-2D127273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22E2-488C-4334-9AFB-80859BBCA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143000"/>
          <a:ext cx="8381880" cy="547524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mbs 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m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ents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appen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’s W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t’s a Z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 T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men of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ld Testa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165" descr=""/>
          <p:cNvPicPr/>
          <p:nvPr/>
        </p:nvPicPr>
        <p:blipFill>
          <a:blip r:embed="rId26"/>
          <a:stretch/>
        </p:blipFill>
        <p:spPr>
          <a:xfrm>
            <a:off x="457200" y="152280"/>
            <a:ext cx="205740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7"/>
          <p:cNvSpPr/>
          <p:nvPr/>
        </p:nvSpPr>
        <p:spPr>
          <a:xfrm>
            <a:off x="2819520" y="2286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Perpetua Titling MT"/>
              </a:rPr>
              <a:t>Double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213280" y="1752480"/>
            <a:ext cx="44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venant sign 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 know that God wi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er again destroy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th with a f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212200" y="1752480"/>
            <a:ext cx="453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deon asked for a w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dry sign of God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se by placing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the threshing fl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12560" y="175248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said to this pers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 off your sandals,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lace you are 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holy groun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212920" y="1752480"/>
            <a:ext cx="497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two men we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adults from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odus allowed to go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12560" y="1752480"/>
            <a:ext cx="523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said to this pers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strong and courage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not be afraid; do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d, for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God will be with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ver you g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2212920" y="1752480"/>
            <a:ext cx="53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az served as one of the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uth and Naom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214720" y="1752480"/>
            <a:ext cx="503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riest stoppe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al worship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morality at Shittim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sp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212200" y="1752480"/>
            <a:ext cx="47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RD provided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place of Isaa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212920" y="17524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aron threw gold in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e and out came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213280" y="1752480"/>
            <a:ext cx="525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eat was still bet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teeth when God s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m with a plagu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umb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12560" y="1752480"/>
            <a:ext cx="51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womb was empty u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90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212920" y="1752480"/>
            <a:ext cx="468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le God sent thes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dge Israel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lderness, He al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d a way to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213640" y="1752480"/>
            <a:ext cx="51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han’s judgment par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avid substituted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for Bathshe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211840" y="1752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accused Joseph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ying to rape 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212200" y="175248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turned leprous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challenged Mo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211840" y="175248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id spies on her roo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212200" y="1752480"/>
            <a:ext cx="499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gave the LOR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, “The God who s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212560" y="175248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rove a stake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sera’s h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12560" y="1752480"/>
            <a:ext cx="487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she criticized 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ncing husband, she 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children to the da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d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212920" y="1752480"/>
            <a:ext cx="524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empty womb promp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rayer that w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understoo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unken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13280" y="1752480"/>
            <a:ext cx="481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rongfully died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ttle because of David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12920" y="17524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imelek and his two 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d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11840" y="1752480"/>
            <a:ext cx="43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ot Joseph out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214000" y="1752480"/>
            <a:ext cx="500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event commemo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’s protection of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the plague of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pon Egy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12560" y="1752480"/>
            <a:ext cx="434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Saul was th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id refused to lay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d upon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Shelley Leith</cp:lastModifiedBy>
  <dcterms:modified xsi:type="dcterms:W3CDTF">2009-05-04T02:37:48Z</dcterms:modified>
  <cp:revision>29</cp:revision>
  <dc:subject/>
  <dc:title>Slide 1</dc:title>
</cp:coreProperties>
</file>