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7C4-7B8A-4412-B61A-844B5C69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A38-28C5-4FA8-AEDA-F866C0B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35D-E9E7-4410-BC71-C27CA8EE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844-79F4-4858-9C55-BABB92AB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93E-38DC-4457-8125-E1AF93A4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C01-D5E7-431D-A93F-4F8AEA2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55D-155C-405D-B7E0-A0CAF30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6559-79D6-41F2-9585-2BDF0347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8F1-FD4A-49AA-AAD1-F272BBC7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673-2D0C-4134-98DB-BA061D1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BFE-246A-4491-AE31-8FACDEC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A3A-7EF9-45C2-8B94-7512111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C45-D51D-485E-A6DD-01E6A80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4926-40E1-41C6-B166-8C593E9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3951-3754-41E8-B76D-6D22744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602D-7705-4C45-B18C-6C64812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C2C3-9348-4062-AAF3-902F487D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E59-B84F-454B-97C1-9C35267B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F56-29F2-426B-91F0-162F6B0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917-CDAE-4DD8-9836-2660F8A9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6CE-9305-492A-9B52-39CCD2E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798-BFBD-4EE3-82F7-1CF1655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C1C-168D-4B22-921F-EB4FD37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91E-FE23-4B18-B6CF-99A6FE1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DE8-4B38-4314-8F86-0FCB17E7E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461-6786-4B64-BC5F-B2D2BA511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fatherjoe.files.wordpress.com/2008/03/passion_68_f.jpg&amp;imgrefurl=http://fatherjoe.wordpress.com/2008/03/27/2959/&amp;usg=__jAXJFn6QT_jCYMzGEbW9FZglybs=&amp;h=500&amp;w=375&amp;sz=42&amp;hl=en&amp;start=20&amp;tbnid=iVvjSxul_w6PuM:&amp;tbnh=130&amp;tbnw=98&amp;prev=/images%3Fq%3DJesus%2BPassion%2Bmovie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o do you say I A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sing with Cultists:  He i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 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rst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do you say I A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ess you believe that I AM, you will die in your sins.  (Jn. 8 2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we need to believe exactl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, being a man, make yourself out to be God.  (Jn. 10:3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rst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ed, did God say…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ortion of Je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latians (1:6, 1: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inthians (2 Cor. 11:3-4, 13-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John’s Gnosticism / docetism (1:1, 4: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nosticism:  separation of material and spiritual; higher knowled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istian Science:  Mary Baker Eddy, “The Spiritual Christ was infallible; Jesus, as material manhood, was not Christ.”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anism: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s the first creation of God the Father, “there was a time when Christ was not.”  demi-go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hovah’s Witnesses: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les Russell Taz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ther words, he was the first and direct creation of Jehovah God.”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y Tri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ld Lies / New Guise #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thei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exa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monism (LD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seph Sm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x view of Father, Jesus; created son of God and exalted 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y Trinity, but affirm tritheistic 3-gods with one purp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writings from Moroni and Ne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ture T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we talk to cultists or others who have a distorted view of Jesu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portunities greater than e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 Principles for Conversing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on Rhod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neglect your people skil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assume all members of a group believe the same 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ways define your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get fluster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Scripture referen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 your testimon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900520" cy="3733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366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2809800"/>
            <a:ext cx="3200400" cy="404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819520" y="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181480" y="3176640"/>
            <a:ext cx="241308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925720" y="3505320"/>
            <a:ext cx="242100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593120" y="4952880"/>
            <a:ext cx="15508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543800" y="3505320"/>
            <a:ext cx="16002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0:37:36Z</dcterms:created>
  <dc:creator>HP Authorized Customer</dc:creator>
  <dc:description/>
  <dc:language>en-US</dc:language>
  <cp:lastModifiedBy>HP Authorized Customer</cp:lastModifiedBy>
  <dcterms:modified xsi:type="dcterms:W3CDTF">2009-03-26T12:27:10Z</dcterms:modified>
  <cp:revision>5</cp:revision>
  <dc:subject/>
  <dc:title>Slide 1</dc:title>
</cp:coreProperties>
</file>