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00E-1311-4065-AF63-6A72BE45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641-9F6D-43BB-AF52-C053A4B6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D2B-7925-423B-BEB7-A1D05C91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2D6-B9B0-40DF-A509-685FD02A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67C-8FF6-4898-B3D9-4698F4C2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4F7-8274-4A5B-9239-D084E99D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07E-4B37-4D6A-AE33-4A39AA32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C94-7A70-4A54-9295-E3AD7363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3A1-C183-415F-80DC-2ABFF300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2A5-12A5-46A8-B3D3-200A408B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888-AA87-4CE6-97C6-350BEF62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9C5-3D9E-4BF9-B804-C28E01E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0BC9-F717-4A79-BA83-EA75EF56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4.army.mil/OCPA/uploads/large/2006/CSA-2006-10-31-09495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5410080"/>
            <a:ext cx="259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ila Paris, “God is in Control,”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eyond the Dr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lbum, Star Song Communications, 19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 UH-60 Black Hawk helicopter carries Soldiers from the 10th Mountain Division on a mission in Afghanistan.  This photo appeared on www.army.mil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840"/>
            <a:ext cx="8534160" cy="682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9680" y="5867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His children will not be fors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09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53080" y="60948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will choose to remember and never be sh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4120" y="51814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power above or beside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086600" y="54100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know, 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9568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82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6708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marche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1814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bottom line drawn across the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8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72400" y="4572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 can make it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19720" y="5715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no time for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15960" y="0"/>
            <a:ext cx="6112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96080" y="53053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 but the line nev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11430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how the deception may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43800" y="3962520"/>
            <a:ext cx="137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one thing that has always bee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0240" y="0"/>
            <a:ext cx="445284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248520" y="6248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be true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5960" y="0"/>
            <a:ext cx="61120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772400" y="56707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203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320" y="53352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elieve that His children will not be fors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162920" y="57913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42670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choose to remember and never be sh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846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62920" y="53053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 power above or beside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38880" y="55627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know, 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19240"/>
            <a:ext cx="9144000" cy="461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57800" y="6172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time for 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36680"/>
            <a:ext cx="9144000" cy="5984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48520" y="5562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25560"/>
            <a:ext cx="6858000" cy="6806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1600" y="5410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never let you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467480" y="54100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start to worry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15200" y="5410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start to worry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3808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still the Lord of all we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094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e is still the loving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467480" y="54100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over you and 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228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atching ove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8520" y="0"/>
            <a:ext cx="47469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67480" y="57913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over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2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477120" y="5562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over 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056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67480" y="53053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ing over you, watching over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228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little sp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47920" y="6172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little king, oh,            every little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86120" y="0"/>
            <a:ext cx="517176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4380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5105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49528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9080"/>
            <a:ext cx="7467840" cy="6819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62720" y="763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elieve that His children will not be fors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19920" y="228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7148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choose to remember and never be sh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2280" y="1522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 power above or beside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391520" y="5029200"/>
            <a:ext cx="1752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25520" y="0"/>
            <a:ext cx="46929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2280" y="228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k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71800" y="617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God is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6400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ose the vis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5943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d away by the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67280" y="54100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on to all that you hide in your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27000"/>
            <a:ext cx="7391520" cy="6873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2880" y="603576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one thing that has always bee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43200" y="6172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olds the worl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6:50:14Z</dcterms:created>
  <dc:creator>HP Authorized Customer</dc:creator>
  <dc:description/>
  <dc:language>en-US</dc:language>
  <cp:lastModifiedBy>HP Authorized Customer</cp:lastModifiedBy>
  <dcterms:modified xsi:type="dcterms:W3CDTF">2009-03-19T21:22:18Z</dcterms:modified>
  <cp:revision>12</cp:revision>
  <dc:subject/>
  <dc:title>Slide 1</dc:title>
</cp:coreProperties>
</file>