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930-812A-49A5-B553-2B926DEE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BE0-BD56-4163-B3D1-161DDA70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6B4-21A3-4807-A124-A8CCB8A8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7D6-EDFE-4945-9EB8-07EF71CF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697-552E-42FA-8CFA-E6DF36BF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520-35AC-4B8E-8D7A-85B093E1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91B-5BD2-40EE-B5CF-5F8B4E80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F7D-CAA1-4D2F-B828-965F3A45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BC80-F2D0-445C-8A74-6279092E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E2B-9E3C-4E59-9B14-95188CE5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B8D-2EB0-4C07-B4C9-2C35E40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E4B-4A8E-4823-A60C-B812B12C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4F12-8B5C-4BE5-B89B-0F154885B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anateemary"/>
          <p:cNvPicPr/>
          <p:nvPr/>
        </p:nvPicPr>
        <p:blipFill>
          <a:blip r:embed="rId1"/>
          <a:stretch/>
        </p:blipFill>
        <p:spPr>
          <a:xfrm>
            <a:off x="4070520" y="0"/>
            <a:ext cx="5073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838080" y="685800"/>
            <a:ext cx="2895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0 yr. old Grilled cheese sandwich sells for $28,000 on Ebay; brought original owner luck enough to win $70K at a Florida ca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A woman claims to have found an image of the Virgin Mary on an MRI. (News 4 WOAI)"/>
          <p:cNvPicPr/>
          <p:nvPr/>
        </p:nvPicPr>
        <p:blipFill>
          <a:blip r:embed="rId1"/>
          <a:stretch/>
        </p:blipFill>
        <p:spPr>
          <a:xfrm>
            <a:off x="3581280" y="114300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62120" y="9907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lorida woman finds image on her 2002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Becky Ginn"/>
          <p:cNvPicPr/>
          <p:nvPr/>
        </p:nvPicPr>
        <p:blipFill>
          <a:blip r:embed="rId1"/>
          <a:stretch/>
        </p:blipFill>
        <p:spPr>
          <a:xfrm>
            <a:off x="2666880" y="1295280"/>
            <a:ext cx="6477120" cy="4205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228600" y="144792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Image on a grape in Arlington, TX, Sept 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n Tuesday, a patient at Mercy Medical Center in Springfield reported seeing a window bearing the likeness of the Virgin Mary (left). Although glass experts offer a logical explanation -- minerals in the glass caused an acidic reaction -- the window has nevertheless attracted thousands of spectators. The sighting may be strange, but it is hardly unique -- scroll through some other instances in which people believed to have seen the Virgin Mary."/>
          <p:cNvPicPr/>
          <p:nvPr/>
        </p:nvPicPr>
        <p:blipFill>
          <a:blip r:embed="rId1"/>
          <a:stretch/>
        </p:blipFill>
        <p:spPr>
          <a:xfrm>
            <a:off x="2809800" y="0"/>
            <a:ext cx="63342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80880" y="60948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Window at Mercy Medical Center in Springfield,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This window in Clearwater, Fla., attracted nearly 600,000 visitors before someone defaced it."/>
          <p:cNvPicPr/>
          <p:nvPr/>
        </p:nvPicPr>
        <p:blipFill>
          <a:blip r:embed="rId1"/>
          <a:stretch/>
        </p:blipFill>
        <p:spPr>
          <a:xfrm>
            <a:off x="4264200" y="0"/>
            <a:ext cx="48798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04920" y="685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71aa"/>
                </a:solidFill>
                <a:latin typeface="Arial"/>
              </a:rPr>
              <a:t>Window in Clearwater, FL attracted 600,000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virgin"/>
          <p:cNvPicPr/>
          <p:nvPr/>
        </p:nvPicPr>
        <p:blipFill>
          <a:blip r:embed="rId1"/>
          <a:stretch/>
        </p:blipFill>
        <p:spPr>
          <a:xfrm>
            <a:off x="4095720" y="0"/>
            <a:ext cx="5048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04920" y="3808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rtist depicts the Virgin Mary stained with elephant dung at Brooklyn Museum of Art in 1999; Mayor Giuliani threatened to withhold taxpayer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1:06:37Z</dcterms:created>
  <dc:creator>HP Authorized Customer</dc:creator>
  <dc:description/>
  <dc:language>en-US</dc:language>
  <cp:lastModifiedBy>Shelley Leith</cp:lastModifiedBy>
  <dcterms:modified xsi:type="dcterms:W3CDTF">2009-06-01T07:00:52Z</dcterms:modified>
  <cp:revision>3</cp:revision>
  <dc:subject/>
  <dc:title>Slide 1</dc:title>
</cp:coreProperties>
</file>