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AE0B-E5EE-4877-A6CE-91CC2EB5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05F-D98E-4B57-92FD-E92496ED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D67-17F0-400E-BFA0-0887F4B5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362C-F64D-4982-8AE2-2BC18309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270-BAF8-47DD-ACB3-83372FC0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B8FD-A0C6-41A2-9CAF-7BBC5B87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DE0-9766-471B-961F-92479B61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A68-DCFC-4AE6-AD2D-FD3CE38B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D487-B03E-4CD9-B8E8-3A3326A5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05D9-A8B7-4B9B-9867-5DE5BC2A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2910-9DA0-4C2E-8BB2-BF426CCA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172-F984-4A56-B037-B0ACC86D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839C-3D3A-448F-9E3B-45A3BEADC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l art used with permission from Web Gallery of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ww.wga.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7920" y="0"/>
            <a:ext cx="2648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935680" y="5700600"/>
            <a:ext cx="2948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ELANGELO Buonarrot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rist Carrying the Cro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2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ble, height 205 c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nta Maria sopra Minerva, Ro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b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-6480"/>
            <a:ext cx="8001000" cy="6864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0"/>
            <a:ext cx="2286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TDORFER, Albrecht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rist on the Cross between Mary and St Joh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. 151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mewood, Staatliche Museen, Kasse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1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49640" y="0"/>
            <a:ext cx="4644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0" y="5640480"/>
            <a:ext cx="2286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REA DA FIRENZ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ucifix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70-7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era on wood, Pinacoteca, Vatic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57440" y="0"/>
            <a:ext cx="4029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781680" y="5276880"/>
            <a:ext cx="2362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ONIO DA FIRENZ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ucifixion with Mary and St John the Evangeli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00-5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era on wood, The Hermitage, St. Petersburg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75040" y="0"/>
            <a:ext cx="49939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010280" y="5639040"/>
            <a:ext cx="21337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BREU, Jörg the Elder</a:t>
            </a:r>
            <a:br>
              <a:rPr sz="1400"/>
            </a:b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rucifixion</a:t>
            </a:r>
            <a:br>
              <a:rPr sz="1400"/>
            </a:b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1524</a:t>
            </a:r>
            <a:br>
              <a:rPr sz="1400"/>
            </a:b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useum of Fine Arts, Budap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b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7043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0" y="5410080"/>
            <a:ext cx="1905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IOTTO di Bondon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ucifixio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10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sco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rth transept, Lower Church, San Francesco, Assis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25760" y="0"/>
            <a:ext cx="40924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934320" y="5456520"/>
            <a:ext cx="2209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FFAELLO Sanzi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ucifixion (Città di Castello Altarpiec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02-0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ional Gallery, Londo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d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010640" cy="6908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937840" y="0"/>
            <a:ext cx="2067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46d"/>
                </a:solidFill>
                <a:latin typeface="Arial"/>
              </a:rPr>
              <a:t>VERONESE, Paolo</a:t>
            </a:r>
            <a:br>
              <a:rPr sz="1400"/>
            </a:br>
            <a:r>
              <a:rPr b="0" lang="en-US" sz="1400" spc="-1" strike="noStrike">
                <a:solidFill>
                  <a:srgbClr val="ffc46d"/>
                </a:solidFill>
                <a:latin typeface="Arial"/>
              </a:rPr>
              <a:t>Crucifixion</a:t>
            </a:r>
            <a:br>
              <a:rPr sz="1400"/>
            </a:br>
            <a:r>
              <a:rPr b="0" lang="en-US" sz="1400" spc="-1" strike="noStrike">
                <a:solidFill>
                  <a:srgbClr val="ffc46d"/>
                </a:solidFill>
                <a:latin typeface="Arial"/>
              </a:rPr>
              <a:t>c. 1582</a:t>
            </a:r>
            <a:br>
              <a:rPr sz="1400"/>
            </a:br>
            <a:r>
              <a:rPr b="0" lang="en-US" sz="1400" spc="-1" strike="noStrike">
                <a:solidFill>
                  <a:srgbClr val="ffc46d"/>
                </a:solidFill>
                <a:latin typeface="Arial"/>
              </a:rPr>
              <a:t>Musée du Louvre, Pari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48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477120" y="0"/>
            <a:ext cx="266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ICHELANGELO Buonarroti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et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99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rble, height 174 cm, width at the base 195 cm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ilica di San Pietro, Vatica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21:13:11Z</dcterms:created>
  <dc:creator>HP Authorized Customer</dc:creator>
  <dc:description/>
  <dc:language>en-US</dc:language>
  <cp:lastModifiedBy>HP Authorized Customer</cp:lastModifiedBy>
  <dcterms:modified xsi:type="dcterms:W3CDTF">2009-05-06T15:20:38Z</dcterms:modified>
  <cp:revision>5</cp:revision>
  <dc:subject/>
  <dc:title>Slide 1</dc:title>
</cp:coreProperties>
</file>