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E226-C911-4DBF-8A5D-5F6FC7083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E2EF-953A-40A8-987A-C2F2997F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1C2-9065-4177-8E56-52482711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DDEE-D786-460D-A770-1A2B4F2E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3899-1502-4E8C-87BC-ADB5BC2E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A632-1A69-4A53-95FA-EE01B033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4C83-472A-411E-A7A8-3EB87152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8F78-F846-4D83-A0D3-59E5106B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3972-110D-4199-8862-5620D1C1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FCF3-5CF8-4A93-A25F-8DF65877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3457-33EE-4067-9058-48F0AA66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EB66-6636-4AF3-A746-F1407F61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2E52-5A14-4495-8B29-F4862161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77F4-DB08-458D-AD68-A0DF9423B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3.xml"/><Relationship Id="rId5" Type="http://schemas.openxmlformats.org/officeDocument/2006/relationships/slide" Target="slide8.xml"/><Relationship Id="rId6" Type="http://schemas.openxmlformats.org/officeDocument/2006/relationships/slide" Target="slide13.xml"/><Relationship Id="rId7" Type="http://schemas.openxmlformats.org/officeDocument/2006/relationships/slide" Target="slide4.xml"/><Relationship Id="rId8" Type="http://schemas.openxmlformats.org/officeDocument/2006/relationships/slide" Target="slide9.xml"/><Relationship Id="rId9" Type="http://schemas.openxmlformats.org/officeDocument/2006/relationships/slide" Target="slide14.xml"/><Relationship Id="rId10" Type="http://schemas.openxmlformats.org/officeDocument/2006/relationships/slide" Target="slide5.xml"/><Relationship Id="rId11" Type="http://schemas.openxmlformats.org/officeDocument/2006/relationships/slide" Target="slide10.xml"/><Relationship Id="rId12" Type="http://schemas.openxmlformats.org/officeDocument/2006/relationships/slide" Target="slide15.xml"/><Relationship Id="rId13" Type="http://schemas.openxmlformats.org/officeDocument/2006/relationships/slide" Target="slide6.xml"/><Relationship Id="rId14" Type="http://schemas.openxmlformats.org/officeDocument/2006/relationships/slide" Target="slide11.xml"/><Relationship Id="rId15" Type="http://schemas.openxmlformats.org/officeDocument/2006/relationships/slide" Target="slide16.xml"/><Relationship Id="rId16" Type="http://schemas.openxmlformats.org/officeDocument/2006/relationships/image" Target="../media/image1.wmf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57200" y="1143000"/>
          <a:ext cx="8381880" cy="54259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achings of Jes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gns and Wo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table Quot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s Fa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ssion Improb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" descr=""/>
          <p:cNvPicPr/>
          <p:nvPr/>
        </p:nvPicPr>
        <p:blipFill>
          <a:blip r:embed="rId16"/>
          <a:stretch/>
        </p:blipFill>
        <p:spPr>
          <a:xfrm>
            <a:off x="457200" y="152280"/>
            <a:ext cx="2057400" cy="863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19520" y="22860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Perpetua Titling MT"/>
              </a:rPr>
              <a:t>Double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11120" y="1752480"/>
            <a:ext cx="523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two sisters saw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ise their brother to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13640" y="1752480"/>
            <a:ext cx="509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two disciples hea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man lame from bi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were then arrest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12920" y="1752480"/>
            <a:ext cx="501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ok!  The Lamb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takes away the sin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orld!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12200" y="1752480"/>
            <a:ext cx="590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Holy Spirit will come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, and the power of the M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will overshadow you.  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holy one to be born w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 called Son of God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12920" y="1752480"/>
            <a:ext cx="551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rd, to whom shall we g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have the word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ternal life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13640" y="1752480"/>
            <a:ext cx="520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see heaven open and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n of Man standing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right hand of God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14360" y="1752480"/>
            <a:ext cx="561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want you to give 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ight now the head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ohn the Baptist on a platter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12200" y="1752480"/>
            <a:ext cx="41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wrote the book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13280" y="1752480"/>
            <a:ext cx="515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Holy Spirit came up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disciples on th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stival d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13640" y="1752480"/>
            <a:ext cx="491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was the first Gent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receive the Holy Spir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12200" y="1752480"/>
            <a:ext cx="491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sus used this parable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lain what it means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ve one’s neighb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14000" y="1752480"/>
            <a:ext cx="548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postle went to Sam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preach the gospel t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13280" y="1752480"/>
            <a:ext cx="576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ter quoted from this proph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he explained the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aking in tongue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12920" y="1752480"/>
            <a:ext cx="528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ul’s home base chu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at sent him out on 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sions was located in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it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14000" y="1752480"/>
            <a:ext cx="572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ul and Silas shared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spel with their jailer and 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mily in this city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13280" y="1752480"/>
            <a:ext cx="530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ul stayed with this cou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uring his year and a half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rint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14000" y="1752480"/>
            <a:ext cx="568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ul spent more time bui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church in this city than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y other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12200" y="1752480"/>
            <a:ext cx="558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ul was shipwrecked on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land for months while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 way to Ro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14000" y="1752480"/>
            <a:ext cx="487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sus used this parabl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lain different people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s to the gospe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12920" y="1752480"/>
            <a:ext cx="596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sus used this parabl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lain why he has compa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sinn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13640" y="1752480"/>
            <a:ext cx="519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long teaching of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gan with many “blessed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came to be known 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sermon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12560" y="1752480"/>
            <a:ext cx="483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sus taught this Pharis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need to be born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the Spirit to enter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ingdom of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13280" y="1752480"/>
            <a:ext cx="529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was Jesus’ first 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rough which He revea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 gl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13280" y="1752480"/>
            <a:ext cx="545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 twelve year old daugh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s raised back to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13640" y="1752480"/>
            <a:ext cx="459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th these items He f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000 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HP Authorized Customer</cp:lastModifiedBy>
  <dcterms:modified xsi:type="dcterms:W3CDTF">2009-05-25T21:21:48Z</dcterms:modified>
  <cp:revision>42</cp:revision>
  <dc:subject/>
  <dc:title>Slide 1</dc:title>
</cp:coreProperties>
</file>