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019-94DC-43D1-B9ED-46DA73D5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822-3CC9-4844-B774-FCA58299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9DD-EA59-47C6-8ECF-FF1DFD0A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3D0-96D8-41EE-AC92-68F2DB89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341-E6B0-48FD-8551-5EDD2BDA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AFC-DA00-40B4-8E25-5D033705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13A-A721-4330-B1D6-4177331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7F3-B49E-453F-B3A3-3A92A985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7DE-BE0F-4D48-97AE-EE7D0E5B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63D-E2B0-43DF-AB9A-FF389337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475-A871-4726-8CF3-956070EB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60F-2C8F-4F3B-9C99-05D9ED6E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809-DD9A-4C99-97BC-216CC83E0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 21 Early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190512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20040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44956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295280"/>
            <a:ext cx="7621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1905120"/>
            <a:ext cx="7617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3200400"/>
            <a:ext cx="7617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248520" y="114264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248520" y="243792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05120" y="243792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19320" y="1905120"/>
            <a:ext cx="76176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88620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4495320"/>
            <a:ext cx="76212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3733920"/>
            <a:ext cx="76176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495680"/>
            <a:ext cx="7617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200400"/>
            <a:ext cx="7617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22:17:50Z</dcterms:created>
  <dc:creator>Susan Miller</dc:creator>
  <dc:description/>
  <dc:language>en-US</dc:language>
  <cp:lastModifiedBy>Susan Miller</cp:lastModifiedBy>
  <dcterms:modified xsi:type="dcterms:W3CDTF">2009-01-23T22:24:58Z</dcterms:modified>
  <cp:revision>2</cp:revision>
  <dc:subject/>
  <dc:title>  </dc:title>
</cp:coreProperties>
</file>