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FDE-3AFF-46A3-89B6-577CE1D8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1CC-EEA6-459E-A449-012FCFF9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AF1-D293-42E6-AE1A-272CE4B2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06A-A56D-4316-8AF2-7783CAED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88C-0119-4EA0-8934-C4494B57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4A7-396E-44CE-BAD5-EED346A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CE8-143D-43D8-9AC1-9C8F1138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D76-D288-46BC-A121-FB69794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628-8711-4D96-A7B3-7BCF47A3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3A0-D0EB-4FA2-AFC9-C953E06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739-0D5B-4B07-9FCD-CECA74E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B7E-628F-49DC-ADF4-D3C836C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387-1C1F-41F6-A49E-7AAC1EDD8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553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o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 9 Early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7:29Z</dcterms:created>
  <dc:creator>Susan Miller</dc:creator>
  <dc:description/>
  <dc:language>en-US</dc:language>
  <cp:lastModifiedBy>Susan Miller</cp:lastModifiedBy>
  <dcterms:modified xsi:type="dcterms:W3CDTF">2008-12-09T17:23:44Z</dcterms:modified>
  <cp:revision>2</cp:revision>
  <dc:subject/>
  <dc:title>Word Bank</dc:title>
</cp:coreProperties>
</file>