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5ACB-7324-4179-AA88-B92873C2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202-E20C-4EB6-A2C7-FA052B4D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5D8C-D5C2-46EE-B48C-3CB44313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98C0-FB6F-428A-A8E3-C85A0324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E73-9B85-4DA0-8AD2-F6CE8C0A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D535-5FC9-4A27-B1BC-7C48B930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E3F8-549A-42F3-A3B4-08629FFD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E38-E485-4F2F-B8C0-EDE0A498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F273-14AE-47FC-9E7C-C2492BF1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FD8-2328-4D10-9C40-0046EC71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C8FA-A9C9-489F-912A-56AD29E0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B67D-FF23-47A6-B92F-A0A07D27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CF37-958B-4636-8400-99F872A0B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52578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n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14400" y="5715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867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38080" y="5943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6095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03:32:06Z</dcterms:created>
  <dc:creator>Susan Miller</dc:creator>
  <dc:description/>
  <dc:language>en-US</dc:language>
  <cp:lastModifiedBy>Susan Miller</cp:lastModifiedBy>
  <dcterms:modified xsi:type="dcterms:W3CDTF">2008-12-11T03:45:17Z</dcterms:modified>
  <cp:revision>2</cp:revision>
  <dc:subject/>
  <dc:title>PowerPoint Presentation</dc:title>
</cp:coreProperties>
</file>