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67675-85EC-4ACB-8C36-2B2454E12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45F9-6DFC-433F-808B-23B7ED1DB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1B146-E3BE-476E-9D82-5586B0D39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25C9F-3ECE-473A-AFF9-A9D14797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EC93-A501-42B5-925F-F74BCA5AA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3777-0E27-4AA8-AD32-54F70566D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937E-4459-48CD-BFFB-5CC7F1BDA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7C1D-9921-4097-850A-5BA462A7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0E974-24D7-4448-B7EB-9C9F972D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6B71-A6DE-4F05-AA04-638F66FA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5103A-398C-46DA-BE4C-4802F25A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1724-739C-423C-97A8-07ABF3565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638C-D57A-4D71-AFF9-589D52159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alm 5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981080"/>
            <a:ext cx="6400800" cy="3657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how me your favor in keeping with your faithful love. Because your love is so tender and kind, wipe out my lawless ac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804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 away all of the evil things I’ve done. Make me pure from my sin. I know the lawless acts I’ve committed. I can’t forget my s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the one I’ve really sinned against. I’ve done what is evil in your sight. So you are right when you sentence me. You are fair when you judge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I’ve been a sinner ever since I was born. I’ve been a sinner since my mother became pregnant with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at you want truth to be in my heart. You tech me wisdom deep down inside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1219320"/>
            <a:ext cx="6400800" cy="44193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me pure by sprinkling me with hyssop plant. Then I will be clean. Wash me. Then I will be whiter than snow.</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me hear you say, “Your sins are forgiven.” That will bring me joy and gladness. Let the body you have broken be gl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142640" y="990360"/>
            <a:ext cx="6629400" cy="46479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way all of my sins. Wipe away all of the evil things I’ve done. </a:t>
            </a:r>
            <a:br>
              <a:rPr sz="3200"/>
            </a:b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crate a pure heart in me. Give me a new spirit that is faithful to you.</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2640" y="990360"/>
            <a:ext cx="6629400" cy="46479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send me away from you. Don’t take your Holy Spirit away from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me back the joy that comes from being saved by you. Give me a spirit that obeys you. That will keep me going.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9:27:37Z</dcterms:created>
  <dc:creator>Susan Miller</dc:creator>
  <dc:description/>
  <dc:language>en-US</dc:language>
  <cp:lastModifiedBy>Susan Miller</cp:lastModifiedBy>
  <dcterms:modified xsi:type="dcterms:W3CDTF">2009-01-07T19:40:02Z</dcterms:modified>
  <cp:revision>1</cp:revision>
  <dc:subject/>
  <dc:title>Psalm 51</dc:title>
</cp:coreProperties>
</file>