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901A-D87E-441E-9B82-3CCE6D064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6A26-35F8-4A45-BC0D-D7045A89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949E-FB2A-47C1-9CB1-9B7522D7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6B64-985B-404D-84BA-F3C584AF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608D-BC60-46E3-A7D7-F5DD79E7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BC5D-CFA9-4A0E-8695-533891E0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8D2A-AD28-4F05-B507-F6DE4FCC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0C3C-24D6-400A-B09D-EAF472AB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365B-613F-4601-94B6-DC29F801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C58B-420B-493F-9C3D-EE552F3F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B0B0-FFE2-4399-881D-13125DEE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4E50-42A8-4A1E-A853-1A15951A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2C7A-1C2B-4896-B39F-2FFC0ED53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38080" y="5105160"/>
            <a:ext cx="1828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E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E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81040" y="479520"/>
            <a:ext cx="618192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8:00:12Z</dcterms:created>
  <dc:creator>Susan Miller</dc:creator>
  <dc:description/>
  <dc:language>en-US</dc:language>
  <cp:lastModifiedBy>Susan Miller</cp:lastModifiedBy>
  <dcterms:modified xsi:type="dcterms:W3CDTF">2008-12-10T18:01:46Z</dcterms:modified>
  <cp:revision>1</cp:revision>
  <dc:subject/>
  <dc:title>PowerPoint Presentation</dc:title>
</cp:coreProperties>
</file>