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245-48FD-4A1C-BA13-3D7C43ABD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5805-88DC-435B-AE62-9758AAECE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C3B7-68B8-4412-A240-F74761C1D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B4AA-4F66-4F30-91E2-FCAD0307B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51F3-5DDE-44E5-869B-78C1C39AC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CF69-39DA-4117-9CFA-47B05A35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1364A-1D5A-47BC-9204-1F1D4DD9B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A7CB-2559-43BC-9DC9-E176CF980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89F4-6233-4B9E-A8CB-8BD494FD3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D73F-2260-4901-89F0-4320E9ACB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1BD7-0715-44AC-8FE8-E619CD26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CACF-358F-4ED4-B510-FEFD475DA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4247-253D-400E-90A5-4A1AEDA0F4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71500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 21 Early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5120" y="190512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5120" y="320040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4495680"/>
            <a:ext cx="4343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295280"/>
            <a:ext cx="76212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48520" y="190512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248520" y="320040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6248520" y="114264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6248520" y="243792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905120" y="2437920"/>
            <a:ext cx="76176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219320" y="1905120"/>
            <a:ext cx="76176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410080" y="3886200"/>
            <a:ext cx="76212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10080" y="4495320"/>
            <a:ext cx="762120" cy="762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905120" y="3733920"/>
            <a:ext cx="761760" cy="761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905120" y="4495680"/>
            <a:ext cx="761760" cy="60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5120" y="3200400"/>
            <a:ext cx="76176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22:17:50Z</dcterms:created>
  <dc:creator>Susan Miller</dc:creator>
  <dc:description/>
  <dc:language>en-US</dc:language>
  <cp:lastModifiedBy>Susan Miller</cp:lastModifiedBy>
  <dcterms:modified xsi:type="dcterms:W3CDTF">2009-01-23T22:24:58Z</dcterms:modified>
  <cp:revision>2</cp:revision>
  <dc:subject/>
  <dc:title>  </dc:title>
</cp:coreProperties>
</file>