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716C4-4607-4BAC-AA5C-4193929C4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EFF2-607C-4E48-B349-17396F3D4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5F5EC-969D-461F-932D-629D63F1A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3FAC-1122-4F60-AC35-BF1156D26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AD57-2714-4B7C-8B4C-1A5B0163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0085-71A4-43DF-AAA1-87032976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269C-7430-48AB-B879-27BD78946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0F0A-9C2C-48AB-BB19-1E432547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E469-7183-48AA-BAA9-5C60C8CBA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34CB6-AE6A-42D8-B92B-F983C134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94C7-5DE9-4DFF-A9F3-9561DF037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9281-D54E-4E85-8B9E-4E4AA0972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7A814-8661-44BD-BC6D-17DFEC1B7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38080" y="5105160"/>
            <a:ext cx="1828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ek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ly E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r E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481040" y="479520"/>
            <a:ext cx="6181920" cy="58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8:00:12Z</dcterms:created>
  <dc:creator>Susan Miller</dc:creator>
  <dc:description/>
  <dc:language>en-US</dc:language>
  <cp:lastModifiedBy>Susan Miller</cp:lastModifiedBy>
  <dcterms:modified xsi:type="dcterms:W3CDTF">2008-12-10T18:01:46Z</dcterms:modified>
  <cp:revision>1</cp:revision>
  <dc:subject/>
  <dc:title>PowerPoint Presentation</dc:title>
</cp:coreProperties>
</file>