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17EA-9A9D-4838-87ED-01AFBF09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76B6-7E74-4B51-9E34-FD7314D49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2AD-8E35-4DFD-AF6C-9822CC9F0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F8D7-DB43-413B-A569-478CF1C72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7D62-FE80-4881-A6CD-3679EF30F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D141-D33A-431C-80B1-852CC7BE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FD007-99E1-4F0A-8347-F01A5FFE0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A424-76F2-43DE-8A5E-1EB5649E3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D7E4-07DC-42BE-A73F-61DCA0468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A5AD-9589-48DF-9260-6CE2B7BD3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65DB-9263-46AD-A832-47749A440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2FFA-E695-4EEF-955C-9EAE78508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509B-1813-43CD-8AD9-C8AB696B9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d Ban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76160" y="2743200"/>
            <a:ext cx="61722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o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a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thlehe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her-in-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sb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ek 9 Later E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9T17:17:29Z</dcterms:created>
  <dc:creator>Susan Miller</dc:creator>
  <dc:description/>
  <dc:language>en-US</dc:language>
  <cp:lastModifiedBy>Susan Miller</cp:lastModifiedBy>
  <dcterms:modified xsi:type="dcterms:W3CDTF">2008-12-09T17:48:56Z</dcterms:modified>
  <cp:revision>4</cp:revision>
  <dc:subject/>
  <dc:title>Word Bank</dc:title>
</cp:coreProperties>
</file>