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CCE9-1538-4EF6-B8B5-F552F90BA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00C8-7DCD-4B21-B5BE-C63EBF48C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CD5F-AED4-42D6-A53E-B499C2A1B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B643-16C6-4190-8370-F6DD7EAC3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B201-8982-494D-87CD-FA678C033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EF66-0EB7-4069-B650-02F6CCB0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5A5D-7DF8-4EA6-9526-AC6EDA5D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316-2DEE-46C6-AB31-FA039FD0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AB62-0B42-4ACF-9F5B-12088DD9F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0DC2-E524-4048-85C5-6A547515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77D6-94FF-49B5-9670-DBEAAF3DF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73B2-6BB3-4B26-A483-2C8553DE3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DDF1-0F12-4A06-BDB0-EE4079F6C8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240" y="762120"/>
            <a:ext cx="65530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’m Sorry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or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turn aroun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ba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unhapp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apologiz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sad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gre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s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rong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repent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evil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miser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I’m Forgiven W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orgiv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lov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ardon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cl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ur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sing                                 kind                righ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Joy                snow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wash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   gla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ite as Snow Word B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12 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7T19:21:27Z</dcterms:created>
  <dc:creator>Susan Miller</dc:creator>
  <dc:description/>
  <dc:language>en-US</dc:language>
  <cp:lastModifiedBy>Susan Miller</cp:lastModifiedBy>
  <dcterms:modified xsi:type="dcterms:W3CDTF">2009-01-07T19:27:34Z</dcterms:modified>
  <cp:revision>2</cp:revision>
  <dc:subject/>
  <dc:title>PowerPoint Presentation</dc:title>
</cp:coreProperties>
</file>