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0CA3-4197-4AAA-8624-4704E3EB4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F5753-FAEC-495D-9E1F-C500E0E04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6454-3264-45C0-A145-8F40F74ED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38E-AE22-424C-9ACE-CB63AE22D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2D0F-BF4A-4856-96B2-761EDF5B6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596E-2A1F-4649-927C-AF2DDB67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F957-1676-4408-B3BB-5BF08CCF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8E8-BFE6-4544-BC6E-5D59B011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052A-6693-4F88-B0A0-71EB5FA9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3763-2842-4130-9347-EFD92A8EC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B7D19-121A-4E4B-A332-70BB30AF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8E20-42B3-4FEF-9FED-E88696FD8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0E21-4A86-49DF-8342-1B66B747BE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99072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s there a pleasant peasant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icky people pick Peter Pan peanut but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 big black bug bit a big black bea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lly Sally swiftly shooed seven silly sheep. The seven silly sheep Silly Sally shooed shilly-shallied sou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Week 16 Later Elementary Tongue Twi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4T23:37:10Z</dcterms:created>
  <dc:creator>Susan Miller</dc:creator>
  <dc:description/>
  <dc:language>en-US</dc:language>
  <cp:lastModifiedBy>Susan Miller</cp:lastModifiedBy>
  <dcterms:modified xsi:type="dcterms:W3CDTF">2009-01-14T23:40:44Z</dcterms:modified>
  <cp:revision>2</cp:revision>
  <dc:subject/>
  <dc:title>PowerPoint Presentation</dc:title>
</cp:coreProperties>
</file>