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1DE9-ED0B-4578-B41C-A3CD0DAA3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2C89-DB11-44FE-B8B5-E2EEA327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C763-B14D-4836-825E-00AD1A8AF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3A38-3C35-403A-8419-E234C73F5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241A-5740-4D30-92D7-70DA9832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9742-9795-4C23-A721-A6C6CE0F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BCD-7CE7-42D7-B774-13C545F69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53215-0489-4F4D-803F-3B00BC018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A027-9C5F-422C-938D-D576FE71C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7C4D1-2409-42B5-813B-068D34D2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BCC2-BEC5-4495-A1C7-6CFBC52CA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A51E-E976-45DB-9401-2C82C198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dcba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5E62-526A-4AC5-9AB1-F53951B089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dcba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S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Beginning of Life as We Know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dcba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216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46200" y="2811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32440" y="576360"/>
            <a:ext cx="404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pace View, Day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dcba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6200000">
            <a:off x="-1610280" y="-2885400"/>
            <a:ext cx="7183440" cy="9144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543800" y="2819520"/>
            <a:ext cx="1828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pace 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ay 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30T18:09:41Z</dcterms:created>
  <dc:creator>Stuart Kendrick</dc:creator>
  <dc:description/>
  <dc:language>en-US</dc:language>
  <cp:lastModifiedBy>marianne hering</cp:lastModifiedBy>
  <dcterms:modified xsi:type="dcterms:W3CDTF">2008-11-25T18:10:31Z</dcterms:modified>
  <cp:revision>34</cp:revision>
  <dc:subject/>
  <dc:title>Photo Album</dc:title>
</cp:coreProperties>
</file>