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344400" cy="6400800"/>
  <p:notesSz cx="7088188" cy="94281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7040" y="255240"/>
            <a:ext cx="1110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080" y="1066320"/>
            <a:ext cx="1110924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080" y="3273120"/>
            <a:ext cx="1110924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7040" y="255240"/>
            <a:ext cx="1110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080" y="1066320"/>
            <a:ext cx="542124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06760" y="1066320"/>
            <a:ext cx="542124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080" y="3273120"/>
            <a:ext cx="542124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206760" y="3273120"/>
            <a:ext cx="542124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17040" y="255240"/>
            <a:ext cx="1110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080" y="1066320"/>
            <a:ext cx="357696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70320" y="1066320"/>
            <a:ext cx="357696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026560" y="1066320"/>
            <a:ext cx="357696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080" y="3273120"/>
            <a:ext cx="357696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270320" y="3273120"/>
            <a:ext cx="357696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026560" y="3273120"/>
            <a:ext cx="357696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17040" y="255240"/>
            <a:ext cx="1110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080" y="1066320"/>
            <a:ext cx="11109240" cy="42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17040" y="255240"/>
            <a:ext cx="1110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080" y="1066320"/>
            <a:ext cx="11109240" cy="42246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7040" y="255240"/>
            <a:ext cx="1110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080" y="1066320"/>
            <a:ext cx="5421240" cy="42246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206760" y="1066320"/>
            <a:ext cx="5421240" cy="42246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7040" y="255240"/>
            <a:ext cx="1110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17040" y="255240"/>
            <a:ext cx="11109600" cy="49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17040" y="255240"/>
            <a:ext cx="1110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080" y="1066320"/>
            <a:ext cx="542124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06760" y="1066320"/>
            <a:ext cx="5421240" cy="42246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080" y="3273120"/>
            <a:ext cx="542124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7040" y="255240"/>
            <a:ext cx="1110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080" y="1066320"/>
            <a:ext cx="5421240" cy="42246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06760" y="1066320"/>
            <a:ext cx="542124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06760" y="3273120"/>
            <a:ext cx="542124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7040" y="255240"/>
            <a:ext cx="1110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080" y="1066320"/>
            <a:ext cx="542124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06760" y="1066320"/>
            <a:ext cx="542124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080" y="3273120"/>
            <a:ext cx="11109240" cy="201492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14080" y="1066320"/>
            <a:ext cx="11109240" cy="4224600"/>
          </a:xfrm>
          <a:prstGeom prst="rect">
            <a:avLst/>
          </a:prstGeom>
          <a:noFill/>
          <a:ln w="0">
            <a:noFill/>
          </a:ln>
        </p:spPr>
        <p:txBody>
          <a:bodyPr lIns="115560" rIns="115560" tIns="57960" bIns="57960" anchor="t">
            <a:normAutofit fontScale="81000"/>
          </a:bodyPr>
          <a:p>
            <a:pPr marL="351000" indent="-35100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61040" indent="-29160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1171080" indent="-23364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3" marL="1639080" indent="-2336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4" marL="2107440" indent="-2340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5" marL="2107440" indent="-2340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6" marL="2107440" indent="-234000">
              <a:spcBef>
                <a:spcPts val="1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0" descr="background-week-launch"/>
          <p:cNvPicPr/>
          <p:nvPr/>
        </p:nvPicPr>
        <p:blipFill>
          <a:blip r:embed="rId2"/>
          <a:stretch/>
        </p:blipFill>
        <p:spPr>
          <a:xfrm>
            <a:off x="0" y="0"/>
            <a:ext cx="12344400" cy="6410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tribemap.jpg"/>
          <p:cNvPicPr/>
          <p:nvPr/>
        </p:nvPicPr>
        <p:blipFill>
          <a:blip r:embed="rId1"/>
          <a:stretch/>
        </p:blipFill>
        <p:spPr>
          <a:xfrm>
            <a:off x="-1295280" y="-228600"/>
            <a:ext cx="14554080" cy="69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2:59:51Z</dcterms:created>
  <dc:creator>Gerry True</dc:creator>
  <dc:description/>
  <dc:language>en-US</dc:language>
  <cp:lastModifiedBy>Office 2004 Test Drive User</cp:lastModifiedBy>
  <dcterms:modified xsi:type="dcterms:W3CDTF">2009-10-01T19:13:38Z</dcterms:modified>
  <cp:revision>95</cp:revision>
  <dc:subject/>
  <dc:title>Slide 1</dc:title>
</cp:coreProperties>
</file>